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E5E-5DED-48F2-858C-A96FDCEB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0AB-F492-463E-8819-30CEB0A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91F-040A-482A-8D8D-7A427D0F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B8A-1390-469B-88E0-197237D0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0C9-A687-4A1C-BA3C-34922674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432-B9B1-4994-AFDC-6A99762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47D-3B0E-41D8-B761-7AAAB38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C33-6A6E-4D0F-8D90-6727B6B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8AC-2302-4F8E-BD4B-7513FA3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C70-937C-47E9-A424-1AA8A84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106-0C71-49D5-A041-EF8D1AA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52E-36DF-476E-BCD4-2F35506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97E-9795-4122-8D64-0A1B3CF9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2:10:09Z</dcterms:created>
  <dc:creator>Irving ISD</dc:creator>
  <dc:description/>
  <dc:language>en-US</dc:language>
  <cp:lastModifiedBy>Irving ISD</cp:lastModifiedBy>
  <dcterms:modified xsi:type="dcterms:W3CDTF">2008-04-27T22:10:25Z</dcterms:modified>
  <cp:revision>1</cp:revision>
  <dc:subject/>
  <dc:title>Slide 1</dc:title>
</cp:coreProperties>
</file>